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69E-C136-4542-A31A-38BA3845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18A-C3E1-40B8-B65D-44E33021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8F5-4F59-4463-BFD3-996ABBF6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C39-55DD-4562-B2C3-AE83ABF3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5A3-B05A-4DAD-8FBF-3DC9EF60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841-86A8-4DCE-B933-B24B9E3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6FC-3BC6-48CD-B369-3C5C01BA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A12-A1DB-469B-9383-B0D4198D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7FB-519C-4C4D-884D-9245D402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AFD-D778-4640-A4E6-8A21EFE2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96E-0006-4FE5-8405-783F612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D9F-320C-485A-9581-EEA620B6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71FA-A218-4434-B027-9088B0923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Showcard Gothic"/>
              </a:rPr>
              <a:t>Amerikaren aurkikunt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hikari Corral eta Maria Luisa Piñ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ain zapaltzen ari naizen lurralde berri hau, Amerika deituko di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4753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42920" y="2786040"/>
            <a:ext cx="568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maiera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ustuaren  3 da ,  palos de la fronterako portuan gaude , eta gaur  indiara abiatuko g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408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los de la fronteratik atera gara eta  portua horaindik ikus dezakegu baina dembora gutxi arte  gero dena Itxaso barrena izando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7530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in kanariasera goaz, elikagai gehiago bilatzera eta itsasontziak konpontz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anaria Uharteetan gaude. Elikagai pila lortu ditugu eta itsasontziak konpontzen ari dira. Ezin dugu janari freskua erosi, bestela itsasontzian ustelduko 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tik atera gara oraingoan  ziur nago indiara ailegatuko garel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040360" cy="254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ian nago eta  lurra ikus dezaket!!! Baina hori ….. ez da india zer izango ote 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1130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9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ingura bota mutilok!!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r berri bat aurkitu dugu eta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4164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0:40:04Z</dcterms:created>
  <dc:creator>ik015111zz</dc:creator>
  <dc:description/>
  <dc:language>en-US</dc:language>
  <cp:lastModifiedBy>ik015111zz</cp:lastModifiedBy>
  <dcterms:modified xsi:type="dcterms:W3CDTF">2012-06-21T11:16:01Z</dcterms:modified>
  <cp:revision>2</cp:revision>
  <dc:subject/>
  <dc:title>Amerikaren aurkikuntza</dc:title>
</cp:coreProperties>
</file>